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3657600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A976-6956-438C-B73B-BB1846E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31082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2203200"/>
            <a:ext cx="31082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4089-3ACC-433E-8286-4D53236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7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765-7E2E-4437-AE06-EAC11B6F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25520" y="105732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76360" y="105732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220320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25520" y="220320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76360" y="2203200"/>
            <a:ext cx="10004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64FA-9AB9-46CA-90D7-4959A0A8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057320"/>
            <a:ext cx="3108240" cy="21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BC00-0041-4ED2-82BB-C294AB43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310824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2CC-1817-4FA8-B0FF-0F0AEA9C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2A32-51AA-42C8-859C-F3DE7CAE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FE8-2EB6-4AF9-8F9D-3836080D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325080"/>
            <a:ext cx="3108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93A-4013-4653-8D01-9CC67288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E2F-50E3-44D3-A498-84D5EB83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7680" y="220320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219-E0AB-4ED5-A014-D2003FC1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7680" y="1057320"/>
            <a:ext cx="151668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2203200"/>
            <a:ext cx="3108240" cy="1046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720-2021-4F52-A65E-DC12E19E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057320"/>
            <a:ext cx="310824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 fontScale="97000"/>
          </a:bodyPr>
          <a:p>
            <a:pPr marL="165960" indent="-1659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360360" indent="-13860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5440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77616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99792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5" marL="99792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6" marL="997920" indent="-110880">
              <a:spcBef>
                <a:spcPts val="400"/>
              </a:spcBef>
              <a:buClr>
                <a:srgbClr val="ffffff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320" y="333180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3331800"/>
            <a:ext cx="1159200" cy="24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333180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5B23B-A1CA-42DC-AAED-C5DD6FD92CB9}" type="slidenum">
              <a:rPr b="0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30160" y="2351880"/>
            <a:ext cx="882360" cy="927000"/>
            <a:chOff x="1730160" y="2351880"/>
            <a:chExt cx="882360" cy="927000"/>
          </a:xfrm>
        </p:grpSpPr>
        <p:sp>
          <p:nvSpPr>
            <p:cNvPr id="42" name=""/>
            <p:cNvSpPr/>
            <p:nvPr/>
          </p:nvSpPr>
          <p:spPr>
            <a:xfrm flipH="1" rot="1058400">
              <a:off x="1828080" y="2437920"/>
              <a:ext cx="685800" cy="75456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ff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 rot="1058400">
              <a:off x="2032920" y="2628360"/>
              <a:ext cx="313920" cy="35460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219320" y="1447920"/>
            <a:ext cx="915840" cy="1241280"/>
            <a:chOff x="1219320" y="1447920"/>
            <a:chExt cx="915840" cy="1241280"/>
          </a:xfrm>
        </p:grpSpPr>
        <p:sp>
          <p:nvSpPr>
            <p:cNvPr id="45" name=""/>
            <p:cNvSpPr/>
            <p:nvPr/>
          </p:nvSpPr>
          <p:spPr>
            <a:xfrm>
              <a:off x="1219320" y="1447920"/>
              <a:ext cx="915840" cy="124128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47920" y="1752840"/>
              <a:ext cx="419040" cy="58392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828440" y="533520"/>
            <a:ext cx="522360" cy="707760"/>
            <a:chOff x="1828440" y="533520"/>
            <a:chExt cx="522360" cy="707760"/>
          </a:xfrm>
        </p:grpSpPr>
        <p:sp>
          <p:nvSpPr>
            <p:cNvPr id="48" name=""/>
            <p:cNvSpPr/>
            <p:nvPr/>
          </p:nvSpPr>
          <p:spPr>
            <a:xfrm flipH="1">
              <a:off x="1828080" y="533520"/>
              <a:ext cx="522360" cy="70776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981440" y="707400"/>
              <a:ext cx="239040" cy="33300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066320" y="457200"/>
            <a:ext cx="962280" cy="1203120"/>
            <a:chOff x="1066320" y="457200"/>
            <a:chExt cx="962280" cy="1203120"/>
          </a:xfrm>
        </p:grpSpPr>
        <p:sp>
          <p:nvSpPr>
            <p:cNvPr id="51" name=""/>
            <p:cNvSpPr/>
            <p:nvPr/>
          </p:nvSpPr>
          <p:spPr>
            <a:xfrm flipH="1">
              <a:off x="1065960" y="457200"/>
              <a:ext cx="962280" cy="120312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410480" y="780840"/>
              <a:ext cx="25236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219320" y="2438280"/>
            <a:ext cx="534960" cy="669960"/>
            <a:chOff x="1219320" y="2438280"/>
            <a:chExt cx="534960" cy="669960"/>
          </a:xfrm>
        </p:grpSpPr>
        <p:sp>
          <p:nvSpPr>
            <p:cNvPr id="54" name=""/>
            <p:cNvSpPr/>
            <p:nvPr/>
          </p:nvSpPr>
          <p:spPr>
            <a:xfrm>
              <a:off x="1219320" y="2438280"/>
              <a:ext cx="534960" cy="6699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339933">
                <a:alpha val="50000"/>
              </a:srgbClr>
            </a:solidFill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22720" y="2619360"/>
              <a:ext cx="139680" cy="13644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517400" y="1110240"/>
            <a:ext cx="1368720" cy="1179720"/>
            <a:chOff x="1517400" y="1110240"/>
            <a:chExt cx="1368720" cy="1179720"/>
          </a:xfrm>
        </p:grpSpPr>
        <p:sp>
          <p:nvSpPr>
            <p:cNvPr id="57" name=""/>
            <p:cNvSpPr/>
            <p:nvPr/>
          </p:nvSpPr>
          <p:spPr>
            <a:xfrm flipH="1" rot="4719000">
              <a:off x="1720440" y="1098720"/>
              <a:ext cx="961920" cy="12027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rot="4719000">
              <a:off x="2222280" y="1535400"/>
              <a:ext cx="25236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advTm="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680" y="325080"/>
            <a:ext cx="3108240" cy="609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" y="1057320"/>
            <a:ext cx="1477800" cy="219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23040" bIns="2304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4760" y="1057320"/>
            <a:ext cx="147780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730160" y="0"/>
            <a:ext cx="993600" cy="3278880"/>
            <a:chOff x="1730160" y="0"/>
            <a:chExt cx="993600" cy="3278880"/>
          </a:xfrm>
        </p:grpSpPr>
        <p:sp>
          <p:nvSpPr>
            <p:cNvPr id="63" name=""/>
            <p:cNvSpPr/>
            <p:nvPr/>
          </p:nvSpPr>
          <p:spPr>
            <a:xfrm flipH="1">
              <a:off x="2285280" y="0"/>
              <a:ext cx="438120" cy="2590920"/>
            </a:xfrm>
            <a:custGeom>
              <a:avLst/>
              <a:gdLst/>
              <a:ahLst/>
              <a:rect l="l" t="t" r="r" b="b"/>
              <a:pathLst>
                <a:path w="276" h="1116">
                  <a:moveTo>
                    <a:pt x="72" y="0"/>
                  </a:moveTo>
                  <a:cubicBezTo>
                    <a:pt x="92" y="47"/>
                    <a:pt x="222" y="80"/>
                    <a:pt x="228" y="248"/>
                  </a:cubicBezTo>
                  <a:cubicBezTo>
                    <a:pt x="223" y="437"/>
                    <a:pt x="9" y="463"/>
                    <a:pt x="12" y="654"/>
                  </a:cubicBezTo>
                  <a:cubicBezTo>
                    <a:pt x="0" y="827"/>
                    <a:pt x="221" y="1020"/>
                    <a:pt x="276" y="1116"/>
                  </a:cubicBezTo>
                </a:path>
              </a:pathLst>
            </a:custGeom>
            <a:noFill/>
            <a:ln w="38160">
              <a:solidFill>
                <a:srgbClr val="ff99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730160" y="2351880"/>
              <a:ext cx="882360" cy="927000"/>
              <a:chOff x="1730160" y="2351880"/>
              <a:chExt cx="882360" cy="927000"/>
            </a:xfrm>
          </p:grpSpPr>
          <p:sp>
            <p:nvSpPr>
              <p:cNvPr id="65" name=""/>
              <p:cNvSpPr/>
              <p:nvPr/>
            </p:nvSpPr>
            <p:spPr>
              <a:xfrm flipH="1" rot="1058400">
                <a:off x="1828080" y="2437920"/>
                <a:ext cx="685800" cy="754560"/>
              </a:xfrm>
              <a:custGeom>
                <a:avLst/>
                <a:gdLst/>
                <a:ahLst/>
                <a:rect l="l" t="t" r="r" b="b"/>
                <a:pathLst>
                  <a:path w="577" h="782">
                    <a:moveTo>
                      <a:pt x="7" y="0"/>
                    </a:moveTo>
                    <a:cubicBezTo>
                      <a:pt x="0" y="15"/>
                      <a:pt x="33" y="20"/>
                      <a:pt x="67" y="126"/>
                    </a:cubicBezTo>
                    <a:cubicBezTo>
                      <a:pt x="101" y="232"/>
                      <a:pt x="97" y="582"/>
                      <a:pt x="169" y="630"/>
                    </a:cubicBezTo>
                    <a:cubicBezTo>
                      <a:pt x="241" y="678"/>
                      <a:pt x="416" y="705"/>
                      <a:pt x="445" y="618"/>
                    </a:cubicBezTo>
                    <a:cubicBezTo>
                      <a:pt x="504" y="641"/>
                      <a:pt x="513" y="754"/>
                      <a:pt x="535" y="780"/>
                    </a:cubicBezTo>
                    <a:cubicBezTo>
                      <a:pt x="549" y="778"/>
                      <a:pt x="565" y="782"/>
                      <a:pt x="577" y="774"/>
                    </a:cubicBezTo>
                    <a:cubicBezTo>
                      <a:pt x="572" y="746"/>
                      <a:pt x="515" y="697"/>
                      <a:pt x="505" y="612"/>
                    </a:cubicBezTo>
                    <a:cubicBezTo>
                      <a:pt x="506" y="551"/>
                      <a:pt x="565" y="348"/>
                      <a:pt x="517" y="264"/>
                    </a:cubicBezTo>
                    <a:cubicBezTo>
                      <a:pt x="469" y="180"/>
                      <a:pt x="413" y="130"/>
                      <a:pt x="7" y="0"/>
                    </a:cubicBezTo>
                    <a:close/>
                  </a:path>
                </a:pathLst>
              </a:custGeom>
              <a:solidFill>
                <a:srgbClr val="ff996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058400">
                <a:off x="2032920" y="2628360"/>
                <a:ext cx="313920" cy="354600"/>
              </a:xfrm>
              <a:custGeom>
                <a:avLst/>
                <a:gdLst/>
                <a:ahLst/>
                <a:rect l="l" t="t" r="r" b="b"/>
                <a:pathLst>
                  <a:path w="264" h="368">
                    <a:moveTo>
                      <a:pt x="0" y="8"/>
                    </a:moveTo>
                    <a:cubicBezTo>
                      <a:pt x="29" y="11"/>
                      <a:pt x="68" y="0"/>
                      <a:pt x="84" y="32"/>
                    </a:cubicBezTo>
                    <a:cubicBezTo>
                      <a:pt x="96" y="56"/>
                      <a:pt x="99" y="84"/>
                      <a:pt x="108" y="110"/>
                    </a:cubicBezTo>
                    <a:cubicBezTo>
                      <a:pt x="110" y="116"/>
                      <a:pt x="114" y="128"/>
                      <a:pt x="114" y="128"/>
                    </a:cubicBezTo>
                    <a:cubicBezTo>
                      <a:pt x="119" y="213"/>
                      <a:pt x="113" y="302"/>
                      <a:pt x="198" y="344"/>
                    </a:cubicBezTo>
                    <a:cubicBezTo>
                      <a:pt x="217" y="354"/>
                      <a:pt x="235" y="368"/>
                      <a:pt x="258" y="368"/>
                    </a:cubicBezTo>
                    <a:cubicBezTo>
                      <a:pt x="264" y="368"/>
                      <a:pt x="246" y="365"/>
                      <a:pt x="240" y="362"/>
                    </a:cubicBezTo>
                    <a:cubicBezTo>
                      <a:pt x="227" y="355"/>
                      <a:pt x="204" y="338"/>
                      <a:pt x="204" y="338"/>
                    </a:cubicBezTo>
                    <a:cubicBezTo>
                      <a:pt x="180" y="301"/>
                      <a:pt x="171" y="300"/>
                      <a:pt x="162" y="254"/>
                    </a:cubicBezTo>
                    <a:cubicBezTo>
                      <a:pt x="158" y="156"/>
                      <a:pt x="180" y="2"/>
                      <a:pt x="36" y="2"/>
                    </a:cubicBezTo>
                    <a:cubicBezTo>
                      <a:pt x="24" y="2"/>
                      <a:pt x="12" y="6"/>
                      <a:pt x="0" y="8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1219320" y="1447920"/>
            <a:ext cx="915840" cy="1241280"/>
            <a:chOff x="1219320" y="1447920"/>
            <a:chExt cx="915840" cy="1241280"/>
          </a:xfrm>
        </p:grpSpPr>
        <p:sp>
          <p:nvSpPr>
            <p:cNvPr id="68" name=""/>
            <p:cNvSpPr/>
            <p:nvPr/>
          </p:nvSpPr>
          <p:spPr>
            <a:xfrm>
              <a:off x="1219320" y="1447920"/>
              <a:ext cx="915840" cy="124128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7920" y="1752840"/>
              <a:ext cx="419040" cy="58392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828440" y="533520"/>
            <a:ext cx="522360" cy="707760"/>
            <a:chOff x="1828440" y="533520"/>
            <a:chExt cx="522360" cy="707760"/>
          </a:xfrm>
        </p:grpSpPr>
        <p:sp>
          <p:nvSpPr>
            <p:cNvPr id="71" name=""/>
            <p:cNvSpPr/>
            <p:nvPr/>
          </p:nvSpPr>
          <p:spPr>
            <a:xfrm flipH="1">
              <a:off x="1828080" y="533520"/>
              <a:ext cx="522360" cy="70776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93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981440" y="707400"/>
              <a:ext cx="239040" cy="33300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19320" y="2438280"/>
            <a:ext cx="534960" cy="669960"/>
            <a:chOff x="1219320" y="2438280"/>
            <a:chExt cx="534960" cy="669960"/>
          </a:xfrm>
        </p:grpSpPr>
        <p:sp>
          <p:nvSpPr>
            <p:cNvPr id="74" name=""/>
            <p:cNvSpPr/>
            <p:nvPr/>
          </p:nvSpPr>
          <p:spPr>
            <a:xfrm>
              <a:off x="1219320" y="2438280"/>
              <a:ext cx="534960" cy="6699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339933">
                <a:alpha val="50000"/>
              </a:srgbClr>
            </a:solidFill>
            <a:ln w="93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22720" y="2619360"/>
              <a:ext cx="139680" cy="13644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17400" y="1110240"/>
            <a:ext cx="1368720" cy="1179720"/>
            <a:chOff x="1517400" y="1110240"/>
            <a:chExt cx="1368720" cy="1179720"/>
          </a:xfrm>
        </p:grpSpPr>
        <p:sp>
          <p:nvSpPr>
            <p:cNvPr id="77" name=""/>
            <p:cNvSpPr/>
            <p:nvPr/>
          </p:nvSpPr>
          <p:spPr>
            <a:xfrm flipH="1" rot="4719000">
              <a:off x="1720440" y="1098720"/>
              <a:ext cx="961920" cy="120276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4719000">
              <a:off x="2222280" y="1535400"/>
              <a:ext cx="25236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04920"/>
            <a:ext cx="554040" cy="2079360"/>
            <a:chOff x="762120" y="304920"/>
            <a:chExt cx="554040" cy="2079360"/>
          </a:xfrm>
        </p:grpSpPr>
        <p:sp>
          <p:nvSpPr>
            <p:cNvPr id="80" name=""/>
            <p:cNvSpPr/>
            <p:nvPr/>
          </p:nvSpPr>
          <p:spPr>
            <a:xfrm>
              <a:off x="762120" y="304920"/>
              <a:ext cx="438120" cy="1771560"/>
            </a:xfrm>
            <a:custGeom>
              <a:avLst/>
              <a:gdLst/>
              <a:ahLst/>
              <a:rect l="l" t="t" r="r" b="b"/>
              <a:pathLst>
                <a:path w="276" h="1116">
                  <a:moveTo>
                    <a:pt x="72" y="0"/>
                  </a:moveTo>
                  <a:cubicBezTo>
                    <a:pt x="92" y="47"/>
                    <a:pt x="222" y="80"/>
                    <a:pt x="228" y="248"/>
                  </a:cubicBezTo>
                  <a:cubicBezTo>
                    <a:pt x="223" y="437"/>
                    <a:pt x="9" y="463"/>
                    <a:pt x="12" y="654"/>
                  </a:cubicBezTo>
                  <a:cubicBezTo>
                    <a:pt x="0" y="827"/>
                    <a:pt x="221" y="1020"/>
                    <a:pt x="276" y="1116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961920" y="1905120"/>
              <a:ext cx="354240" cy="479160"/>
              <a:chOff x="961920" y="1905120"/>
              <a:chExt cx="354240" cy="479160"/>
            </a:xfrm>
          </p:grpSpPr>
          <p:sp>
            <p:nvSpPr>
              <p:cNvPr id="82" name=""/>
              <p:cNvSpPr/>
              <p:nvPr/>
            </p:nvSpPr>
            <p:spPr>
              <a:xfrm>
                <a:off x="961920" y="1905120"/>
                <a:ext cx="354240" cy="479160"/>
              </a:xfrm>
              <a:custGeom>
                <a:avLst/>
                <a:gdLst/>
                <a:ahLst/>
                <a:rect l="l" t="t" r="r" b="b"/>
                <a:pathLst>
                  <a:path w="577" h="782">
                    <a:moveTo>
                      <a:pt x="7" y="0"/>
                    </a:moveTo>
                    <a:cubicBezTo>
                      <a:pt x="0" y="15"/>
                      <a:pt x="33" y="20"/>
                      <a:pt x="67" y="126"/>
                    </a:cubicBezTo>
                    <a:cubicBezTo>
                      <a:pt x="101" y="232"/>
                      <a:pt x="97" y="582"/>
                      <a:pt x="169" y="630"/>
                    </a:cubicBezTo>
                    <a:cubicBezTo>
                      <a:pt x="241" y="678"/>
                      <a:pt x="416" y="705"/>
                      <a:pt x="445" y="618"/>
                    </a:cubicBezTo>
                    <a:cubicBezTo>
                      <a:pt x="504" y="641"/>
                      <a:pt x="513" y="754"/>
                      <a:pt x="535" y="780"/>
                    </a:cubicBezTo>
                    <a:cubicBezTo>
                      <a:pt x="549" y="778"/>
                      <a:pt x="565" y="782"/>
                      <a:pt x="577" y="774"/>
                    </a:cubicBezTo>
                    <a:cubicBezTo>
                      <a:pt x="572" y="746"/>
                      <a:pt x="515" y="697"/>
                      <a:pt x="505" y="612"/>
                    </a:cubicBezTo>
                    <a:cubicBezTo>
                      <a:pt x="506" y="551"/>
                      <a:pt x="565" y="348"/>
                      <a:pt x="517" y="264"/>
                    </a:cubicBezTo>
                    <a:cubicBezTo>
                      <a:pt x="469" y="180"/>
                      <a:pt x="413" y="130"/>
                      <a:pt x="7" y="0"/>
                    </a:cubicBez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050840" y="2022480"/>
                <a:ext cx="162000" cy="225360"/>
              </a:xfrm>
              <a:custGeom>
                <a:avLst/>
                <a:gdLst/>
                <a:ahLst/>
                <a:rect l="l" t="t" r="r" b="b"/>
                <a:pathLst>
                  <a:path w="264" h="368">
                    <a:moveTo>
                      <a:pt x="0" y="8"/>
                    </a:moveTo>
                    <a:cubicBezTo>
                      <a:pt x="29" y="11"/>
                      <a:pt x="68" y="0"/>
                      <a:pt x="84" y="32"/>
                    </a:cubicBezTo>
                    <a:cubicBezTo>
                      <a:pt x="96" y="56"/>
                      <a:pt x="99" y="84"/>
                      <a:pt x="108" y="110"/>
                    </a:cubicBezTo>
                    <a:cubicBezTo>
                      <a:pt x="110" y="116"/>
                      <a:pt x="114" y="128"/>
                      <a:pt x="114" y="128"/>
                    </a:cubicBezTo>
                    <a:cubicBezTo>
                      <a:pt x="119" y="213"/>
                      <a:pt x="113" y="302"/>
                      <a:pt x="198" y="344"/>
                    </a:cubicBezTo>
                    <a:cubicBezTo>
                      <a:pt x="217" y="354"/>
                      <a:pt x="235" y="368"/>
                      <a:pt x="258" y="368"/>
                    </a:cubicBezTo>
                    <a:cubicBezTo>
                      <a:pt x="264" y="368"/>
                      <a:pt x="246" y="365"/>
                      <a:pt x="240" y="362"/>
                    </a:cubicBezTo>
                    <a:cubicBezTo>
                      <a:pt x="227" y="355"/>
                      <a:pt x="204" y="338"/>
                      <a:pt x="204" y="338"/>
                    </a:cubicBezTo>
                    <a:cubicBezTo>
                      <a:pt x="180" y="301"/>
                      <a:pt x="171" y="300"/>
                      <a:pt x="162" y="254"/>
                    </a:cubicBezTo>
                    <a:cubicBezTo>
                      <a:pt x="158" y="156"/>
                      <a:pt x="180" y="2"/>
                      <a:pt x="36" y="2"/>
                    </a:cubicBezTo>
                    <a:cubicBezTo>
                      <a:pt x="24" y="2"/>
                      <a:pt x="12" y="6"/>
                      <a:pt x="0" y="8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1066320" y="76320"/>
            <a:ext cx="962280" cy="1584000"/>
            <a:chOff x="1066320" y="76320"/>
            <a:chExt cx="962280" cy="1584000"/>
          </a:xfrm>
        </p:grpSpPr>
        <p:grpSp>
          <p:nvGrpSpPr>
            <p:cNvPr id="85" name=""/>
            <p:cNvGrpSpPr/>
            <p:nvPr/>
          </p:nvGrpSpPr>
          <p:grpSpPr>
            <a:xfrm>
              <a:off x="1066320" y="457200"/>
              <a:ext cx="962280" cy="1203120"/>
              <a:chOff x="1066320" y="457200"/>
              <a:chExt cx="962280" cy="120312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1065960" y="457200"/>
                <a:ext cx="962280" cy="1203120"/>
              </a:xfrm>
              <a:custGeom>
                <a:avLst/>
                <a:gdLst/>
                <a:ahLst/>
                <a:rect l="l" t="t" r="r" b="b"/>
                <a:pathLst>
                  <a:path w="606" h="758">
                    <a:moveTo>
                      <a:pt x="7" y="702"/>
                    </a:moveTo>
                    <a:cubicBezTo>
                      <a:pt x="71" y="687"/>
                      <a:pt x="140" y="656"/>
                      <a:pt x="166" y="408"/>
                    </a:cubicBezTo>
                    <a:cubicBezTo>
                      <a:pt x="200" y="308"/>
                      <a:pt x="100" y="289"/>
                      <a:pt x="69" y="126"/>
                    </a:cubicBezTo>
                    <a:cubicBezTo>
                      <a:pt x="202" y="117"/>
                      <a:pt x="196" y="291"/>
                      <a:pt x="229" y="260"/>
                    </a:cubicBezTo>
                    <a:cubicBezTo>
                      <a:pt x="247" y="258"/>
                      <a:pt x="203" y="189"/>
                      <a:pt x="196" y="148"/>
                    </a:cubicBezTo>
                    <a:cubicBezTo>
                      <a:pt x="190" y="107"/>
                      <a:pt x="162" y="3"/>
                      <a:pt x="183" y="14"/>
                    </a:cubicBezTo>
                    <a:cubicBezTo>
                      <a:pt x="290" y="110"/>
                      <a:pt x="258" y="167"/>
                      <a:pt x="319" y="207"/>
                    </a:cubicBezTo>
                    <a:cubicBezTo>
                      <a:pt x="380" y="141"/>
                      <a:pt x="518" y="14"/>
                      <a:pt x="606" y="0"/>
                    </a:cubicBezTo>
                    <a:cubicBezTo>
                      <a:pt x="570" y="116"/>
                      <a:pt x="540" y="161"/>
                      <a:pt x="417" y="233"/>
                    </a:cubicBezTo>
                    <a:cubicBezTo>
                      <a:pt x="404" y="287"/>
                      <a:pt x="509" y="274"/>
                      <a:pt x="581" y="371"/>
                    </a:cubicBezTo>
                    <a:cubicBezTo>
                      <a:pt x="487" y="418"/>
                      <a:pt x="402" y="337"/>
                      <a:pt x="344" y="337"/>
                    </a:cubicBezTo>
                    <a:cubicBezTo>
                      <a:pt x="310" y="357"/>
                      <a:pt x="405" y="391"/>
                      <a:pt x="443" y="464"/>
                    </a:cubicBezTo>
                    <a:cubicBezTo>
                      <a:pt x="349" y="474"/>
                      <a:pt x="246" y="430"/>
                      <a:pt x="227" y="406"/>
                    </a:cubicBezTo>
                    <a:cubicBezTo>
                      <a:pt x="164" y="453"/>
                      <a:pt x="169" y="666"/>
                      <a:pt x="66" y="744"/>
                    </a:cubicBezTo>
                    <a:cubicBezTo>
                      <a:pt x="30" y="758"/>
                      <a:pt x="0" y="726"/>
                      <a:pt x="7" y="702"/>
                    </a:cubicBez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1410480" y="780840"/>
                <a:ext cx="252360" cy="247680"/>
              </a:xfrm>
              <a:custGeom>
                <a:avLst/>
                <a:gdLst/>
                <a:ahLst/>
                <a:rect l="l" t="t" r="r" b="b"/>
                <a:pathLst>
                  <a:path w="159" h="156">
                    <a:moveTo>
                      <a:pt x="4" y="150"/>
                    </a:moveTo>
                    <a:cubicBezTo>
                      <a:pt x="13" y="96"/>
                      <a:pt x="33" y="88"/>
                      <a:pt x="82" y="72"/>
                    </a:cubicBezTo>
                    <a:cubicBezTo>
                      <a:pt x="93" y="61"/>
                      <a:pt x="112" y="69"/>
                      <a:pt x="118" y="42"/>
                    </a:cubicBezTo>
                    <a:cubicBezTo>
                      <a:pt x="124" y="15"/>
                      <a:pt x="133" y="0"/>
                      <a:pt x="130" y="6"/>
                    </a:cubicBezTo>
                    <a:cubicBezTo>
                      <a:pt x="159" y="39"/>
                      <a:pt x="97" y="104"/>
                      <a:pt x="58" y="108"/>
                    </a:cubicBezTo>
                    <a:cubicBezTo>
                      <a:pt x="19" y="112"/>
                      <a:pt x="0" y="156"/>
                      <a:pt x="4" y="150"/>
                    </a:cubicBez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 flipH="1">
              <a:off x="1447200" y="76320"/>
              <a:ext cx="152280" cy="609480"/>
            </a:xfrm>
            <a:custGeom>
              <a:avLst/>
              <a:gdLst/>
              <a:ahLst/>
              <a:rect l="l" t="t" r="r" b="b"/>
              <a:pathLst>
                <a:path w="276" h="1116">
                  <a:moveTo>
                    <a:pt x="72" y="0"/>
                  </a:moveTo>
                  <a:cubicBezTo>
                    <a:pt x="92" y="47"/>
                    <a:pt x="222" y="80"/>
                    <a:pt x="228" y="248"/>
                  </a:cubicBezTo>
                  <a:cubicBezTo>
                    <a:pt x="223" y="437"/>
                    <a:pt x="9" y="463"/>
                    <a:pt x="12" y="654"/>
                  </a:cubicBezTo>
                  <a:cubicBezTo>
                    <a:pt x="0" y="827"/>
                    <a:pt x="221" y="1020"/>
                    <a:pt x="276" y="1116"/>
                  </a:cubicBezTo>
                </a:path>
              </a:pathLst>
            </a:custGeom>
            <a:noFill/>
            <a:ln w="38160">
              <a:solidFill>
                <a:srgbClr val="ffcc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6-12-07T15:52:44Z</dcterms:modified>
  <cp:revision>0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